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0" cy="22860000"/>
  <p:notesSz cx="18384838" cy="227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E338-2D8F-4B12-8AD4-8FD631DB6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1554480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13768200"/>
            <a:ext cx="1554480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489-1DC8-4F38-921A-E2E3B52E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3696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722-974A-46B2-BCDA-91267790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627240" y="660384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82880" y="660384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1376820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627240" y="1376820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1882880" y="13768200"/>
            <a:ext cx="500508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C5B-E7F2-4BCD-B070-4403849E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6603840"/>
            <a:ext cx="155448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49"/>
              </a:spcBef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B983-5C72-48BC-BACC-F14E2B68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1554480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7B7-291C-431A-BCB7-AFCDA190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AEA-95FF-4DF1-B9B7-4828DF68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8FD-ABE5-4C50-B7E7-40EABD8B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031840"/>
            <a:ext cx="15544800" cy="176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49"/>
              </a:spcBef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6F4D-386D-4CBF-9712-A26508BA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1D3-40BF-4223-99CE-25662602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36960" y="1376820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755-9FAB-4336-A34D-5E78C11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36960" y="6603840"/>
            <a:ext cx="758556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13768200"/>
            <a:ext cx="15544800" cy="65422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indent="0">
              <a:spcBef>
                <a:spcPts val="2049"/>
              </a:spcBef>
              <a:buNone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596-AA56-49A5-AC29-D9C69468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2031840"/>
            <a:ext cx="15544800" cy="381024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ctr">
            <a:noAutofit/>
          </a:bodyPr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11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6603840"/>
            <a:ext cx="15544800" cy="1371600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rmAutofit/>
          </a:bodyPr>
          <a:p>
            <a:pPr marL="880920" indent="-880920">
              <a:spcBef>
                <a:spcPts val="2049"/>
              </a:spcBef>
              <a:buClr>
                <a:srgbClr val="000000"/>
              </a:buClr>
              <a:buFont typeface="Times New Roman"/>
              <a:buChar char="•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9800" indent="-733320">
              <a:spcBef>
                <a:spcPts val="2049"/>
              </a:spcBef>
              <a:buClr>
                <a:srgbClr val="000000"/>
              </a:buClr>
              <a:buFont typeface="Times New Roman"/>
              <a:buChar char="–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2" marL="2938320" indent="-587160">
              <a:spcBef>
                <a:spcPts val="2049"/>
              </a:spcBef>
              <a:buClr>
                <a:srgbClr val="000000"/>
              </a:buClr>
              <a:buFont typeface="Times New Roman"/>
              <a:buChar char="•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3" marL="4114800" indent="-587520">
              <a:spcBef>
                <a:spcPts val="2049"/>
              </a:spcBef>
              <a:buClr>
                <a:srgbClr val="000000"/>
              </a:buClr>
              <a:buFont typeface="Times New Roman"/>
              <a:buChar char="–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4" marL="5291280" indent="-588960">
              <a:spcBef>
                <a:spcPts val="2049"/>
              </a:spcBef>
              <a:buClr>
                <a:srgbClr val="000000"/>
              </a:buClr>
              <a:buFont typeface="Times New Roman"/>
              <a:buChar char="»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5" marL="5291280" indent="-588960">
              <a:spcBef>
                <a:spcPts val="2049"/>
              </a:spcBef>
              <a:buClr>
                <a:srgbClr val="000000"/>
              </a:buClr>
              <a:buFont typeface="Times New Roman"/>
              <a:buChar char="»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  <a:p>
            <a:pPr lvl="6" marL="5291280" indent="-588960">
              <a:spcBef>
                <a:spcPts val="2049"/>
              </a:spcBef>
              <a:buClr>
                <a:srgbClr val="000000"/>
              </a:buClr>
              <a:buFont typeface="Times New Roman"/>
              <a:buChar char="»"/>
              <a:tabLst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2082780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Autofit/>
          </a:bodyPr>
          <a:lstStyle>
            <a:lvl1pPr indent="0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2082780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Autofit/>
          </a:bodyPr>
          <a:lstStyle>
            <a:lvl1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2082780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235080" rIns="235080" tIns="117720" bIns="117720" anchor="t">
            <a:noAutofit/>
          </a:bodyPr>
          <a:lstStyle>
            <a:lvl1pPr indent="0" algn="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  <a:defRPr b="0" lang="en-US" sz="3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351160"/>
                <a:tab algn="l" pos="4702320"/>
                <a:tab algn="l" pos="7053120"/>
                <a:tab algn="l" pos="9404280"/>
              </a:tabLst>
            </a:pPr>
            <a:fld id="{394A5173-8C4B-4F2E-87DD-8D83D9E4839B}" type="slidenum"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1031200"/>
            <a:ext cx="182880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18288000" cy="1828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762120"/>
            <a:ext cx="16459200" cy="20878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09680" y="609480"/>
            <a:ext cx="14020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rebuchet MS"/>
              </a:rPr>
              <a:t>Lo Que Hago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rebuchet MS"/>
              <a:ea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3657600"/>
            <a:ext cx="14096880" cy="171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sas son las actividades qu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dos los dias, los fines de semana y los ver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dos los dias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eva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siete y diez y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ducho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is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ar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lleg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l coleg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tes de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sali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e mi casa y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tom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 bus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desayun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on leche y ce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le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l colegio al las siete y cuarenta y cinco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harlo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 poco con 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igos y amigas antes de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empez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las clases a las ocho y diez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 clas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spanol, ingles y matematicas.  Tambien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utadoras y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gust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toc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 pi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a la tarde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uelv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mi casa, como a las tres y veinte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areas.  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tudi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hasta las cinco y media y despu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al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un poco con m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igas par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i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l almacen o al parq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 mi familia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en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siete y media, despu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e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un poco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levision y no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acostamo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las die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fines de semanas n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las mismas cosas qu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dos los d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ero, me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eva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diez o diez y media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desauyn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on mi famil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sta las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spues me ducho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limpi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i cuarto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ayud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mis padres 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i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e compras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cort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la hierba o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trabaj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el garaje.  Si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c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buen tiemp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o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bicicl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 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nada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la piscina, o por un paseo en el parque.  A vece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rro de mis amigas,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amo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fiestas o al cine a </a:t>
            </a:r>
            <a:r>
              <a:rPr b="0" lang="en-GB" sz="2800" spc="-1" strike="noStrike">
                <a:solidFill>
                  <a:srgbClr val="33cc33"/>
                </a:solidFill>
                <a:latin typeface="Verdana"/>
              </a:rPr>
              <a:t>ve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elicu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 n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c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buen tiemp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to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n mi casa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toc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 pian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e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elevision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jueg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 las damas con mi herm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veranos mi familia y yo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viaj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uchos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hace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uchas co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untos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jug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escuch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usica,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baila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comemo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emasiad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s veranos </a:t>
            </a:r>
            <a:r>
              <a:rPr b="0" lang="en-GB" sz="2800" spc="-1" strike="noStrike">
                <a:solidFill>
                  <a:srgbClr val="ff3300"/>
                </a:solidFill>
                <a:latin typeface="Verdana"/>
              </a:rPr>
              <a:t>s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mis estaciones favorit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8305920"/>
            <a:ext cx="1676160" cy="639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468480" y="7467480"/>
            <a:ext cx="1489320" cy="155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828800" y="10210680"/>
            <a:ext cx="1023840" cy="95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2953880" y="11506320"/>
            <a:ext cx="838440" cy="655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8120" y="7365960"/>
            <a:ext cx="12191760" cy="81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1905120" y="12801600"/>
            <a:ext cx="771480" cy="1238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14859000" y="17373600"/>
            <a:ext cx="14479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13:20:49Z</dcterms:created>
  <dc:creator>ValeriaP</dc:creator>
  <dc:description/>
  <dc:language>en-US</dc:language>
  <cp:lastModifiedBy>Preferred Customer</cp:lastModifiedBy>
  <cp:lastPrinted>2000-05-04T21:23:43Z</cp:lastPrinted>
  <dcterms:modified xsi:type="dcterms:W3CDTF">2002-01-27T02:46:29Z</dcterms:modified>
  <cp:revision>11</cp:revision>
  <dc:subject/>
  <dc:title>No Slide Title</dc:title>
</cp:coreProperties>
</file>